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1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ix &amp; Mingle Slide 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 will appear when next word in sequence is clic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ponding to students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“in the moment”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sually in the classroom when you may be under more pressure to respo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ing can v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ver delay feedback beyond when it would make a difference to studen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ount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it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ints and questions always relate to major learning go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ien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pecific responses to student work and/or questions - is the student in the frame of mind to receive the feedbac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roup/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when most of class misses same concept - teaching opport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nt a mix of problem-specific  feedback and general feedba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feedback from plenaries came in the form of a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roups will cooperatively decide which two samples to use to respond in the moment; one additive sample, one multiplicative s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ossible cho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(Sample #4) – multiplicative thinking (page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(Sample #5) – additiv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“Growing Succes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p at original quote - 3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omments from other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key elements with the large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remai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reflect on and record key learnings from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participants to the concept of the “Parking L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do our best to honor every conversation, but at times we will need to move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lingering questions, new questions, comments etc. - “park” them in the parking lot - we have set aside time at the end of the Proportional Reasoning breakouts to address as many as we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ut one idea on each sticky no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complete this task independ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flect and record their responses to the ques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t is Proportional Reasoning on sticky notes.  Each idea will go on a separate no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 groups of 2 or 4, participants begin to create a concept web from common understandings and ideas and organizing sticky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cuss with participants that we will revisit the concept map throughout our Proportional Reasoning breakout s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ick to next slide to review example of “Concept Ma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e re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K-12 Proportional Reasoning Pages 3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ntroduc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of Multiplic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ｷ</a:t>
            </a:r>
            <a:r>
              <a:rPr b="1" lang="en-CA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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Participants complete reading and revise concept maps in a new 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0 minutes (approximat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articipants reconstruct Stages of Multiplicative Reasoning chart.  Each researcher is highlighted in a different colour.  Participants match one of each colour (three groups of researchers, three colours) together to find connections of stages between three researc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connections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 terms may vary slightly from researcher to researcher - essentially the sequence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e terms created by the teacher resear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igns on the wall - as we find student samples that reflect a stage - post it under that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completed “Stages of Multiplicative Reasoning” - participants will read introductory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student work sample package to each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leftover package on document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eginning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participants to place each sample somewhere on the stag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mplete invite table groups to share their placements and rea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4A52-01A2-4328-8EFE-E38173FF2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5CAE-065B-4AD7-AC9E-2A194F5DF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1790-DCC1-453F-A532-CF621EB7B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8CBA-2F01-467A-9ABE-0DDD843C6A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640F-BB06-46F2-B0EF-C1961CC2EF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E7D1-F22E-4439-8A80-4C7A54A40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0DE0-4097-4D84-9AFA-35B64A125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F5A4-39D5-4795-9004-B73D37C8E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2FEF-570B-4AD5-A128-71AAC3EE2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EF6E-BCEC-4EF6-9D47-0B8F3C5E3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5E73-D2AD-4DE2-AB54-A3BAEB179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9CA3-93E3-49C5-B457-FF03B6B60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180B-2CC4-4390-B159-14757C501E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6968-A2E3-4721-B756-1559287D42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28195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:</a:t>
            </a: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hat is the Focu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Feedback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Breakou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2478"/>
                </a:solidFill>
                <a:latin typeface="Tahoma"/>
                <a:ea typeface="Tahoma"/>
              </a:rPr>
              <a:t>K - Grad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2057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viding feedback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22720" y="1440000"/>
            <a:ext cx="25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390528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about the feedback provided in the plenary ses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able groups, brainstorm “In The Moment” feedback for the following s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# 4 - example of multiplicativ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#5 - example of additive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In the Moment Feedback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feedback for the student work sample focusing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/Debrief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ideas recorded at your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ignificant point(s) will you share with the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revise your concept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ournal Reflection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nsider the role and/or importa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Moment Feedb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are some of its challenges and strength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is our content knowledge connected to our feed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lvl="2" marL="1360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60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 understanding of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student work and identify where it belongs on the multiplicative thinking continu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llaboratively practice providing “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moment</a:t>
            </a:r>
            <a:r>
              <a:rPr b="0" lang="en-CA" sz="2400" spc="-1" strike="noStrike">
                <a:solidFill>
                  <a:srgbClr val="000000"/>
                </a:solidFill>
                <a:latin typeface="Lucida Grande"/>
              </a:rPr>
              <a:t>”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edback to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1360" y="50472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4479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is Proportional Reaso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thoughts on sticky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dea will go on a separate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table, begin to organize your notes to create a “Concept M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cept maps are graphical tools for organizing and representing knowledge. They include concepts, usually enclosed in circles or boxes of some type, and relationships between concepts indicated by a connecting line linking two concepts. Words on the line, referred to as linking words or linking phrases, specify the relationship between the two concept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: The Theory Underlying Concept Maps and How to Construct and Use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seph D. No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map.ihmc.us/publications/researchpapers/theorycmaps/theoryunderlyingconceptmap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Read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12 Proportional Reasoning (pages 3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of Proportion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new colour, revise your concept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573120" indent="-53352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deliberate use of multiplicative thinking to compare and predict.  (Small, Aug. 15,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rtional reasoning is a form of mathematical reasoning that involves a sense of covariation, multiple comparisons, and the ability to remember and process several piec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rtional Reasoning involves reasoning about the holistic relationship between two rational expressions such as rates, ratios, quotients, and f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4120" indent="-380880" algn="r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cerpt from Lesh, Post, and Beh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ultiplicative Matc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nstruct Stages of Multiplicative Reasoning char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ch researcher (group)is highlighted in a different colou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tch one of each colour together to find connections between three resear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ample student responses for Six-Dinner S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ight you place them on the Stages of Multiplicative Thinking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5927760"/>
            <a:ext cx="563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d has 6 owners who all don't know about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 he eats 6 dinners each n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many dinners would he eat in a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omputer Services</cp:lastModifiedBy>
  <dcterms:modified xsi:type="dcterms:W3CDTF">2011-08-17T02:17:03Z</dcterms:modified>
  <cp:revision>116</cp:revision>
  <dc:subject/>
  <dc:title>&lt;Title&gt;</dc:title>
</cp:coreProperties>
</file>